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707-4F2B-431F-860E-5D889D4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1CF-4C73-4567-ADA8-FBB406E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957-3766-4C95-8ADC-91A573B2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DE6-C6B2-40E6-8432-79F7980A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FA6-DF51-4CEB-869F-305826C1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A3A-5B8F-4A98-B5AD-A010565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2FC-D20C-4EA8-A737-00E8B1B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E88-4980-4CDA-BF79-D574D03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DD6-899A-459E-BE63-4A123E0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364-F9F6-41C8-A2A5-8A8CE44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757-F86B-40E8-A31E-200420D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15F-B3B9-48D3-ADBC-77CBCE9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AE7-53C1-4243-8C12-2D4CDD51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LASHCARD)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at is charting the micro-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what the author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what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uthor’s actions) in a 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?s: what is this section about?, what info is being presented?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 ?s (begin w/ VERB): Giving an example, interpreting data, summarizing research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Verbs: arguing, analyzing, comparing, explaining, summarizing,, predicting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ing the Micro-Structure Practice Articl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handout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mes-Washington Post—5-24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ile =a bitter green-brown liquid formed in the liver, which helps you to digest f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hood obesity has become an epidemic in America and parents may outlive their childr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a direct quotation from a research project on childhood obesit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bile =a bitter green-brown liquid formed in the liver, which helps you to digest fa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29:51Z</dcterms:created>
  <dc:creator>Nvasquez</dc:creator>
  <dc:description/>
  <dc:language>en-US</dc:language>
  <cp:lastModifiedBy>Nvasquez</cp:lastModifiedBy>
  <dcterms:modified xsi:type="dcterms:W3CDTF">2009-12-11T20:28:36Z</dcterms:modified>
  <cp:revision>13</cp:revision>
  <dc:subject/>
  <dc:title>What is charting the micro-structure?</dc:title>
</cp:coreProperties>
</file>